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253E-CC11-4E64-8C00-7C897AF70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FE23-064F-4A4A-8920-8D5B7418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165C-4C46-43A7-9E86-41B002234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AF25-4E70-4322-A319-89CC997B7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79B2-32F4-4F41-8F94-513ACE5B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C1B3-862B-41FD-90AC-988E83EB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49CE-EECC-4E02-98F4-7C5242DF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5BC7-5D4F-45AD-A509-63CD51EA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A05F-6D27-4BEB-BB71-EA819241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997C-9999-4ED6-8483-A2B930CE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190F-4D8F-4D70-AFE1-9632341D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0B94-8C98-43C7-9781-A73FF31E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07DD-336F-40DF-B8D1-41962A625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4"/>
          <p:cNvSpPr/>
          <p:nvPr/>
        </p:nvSpPr>
        <p:spPr>
          <a:xfrm>
            <a:off x="1371600" y="1066680"/>
            <a:ext cx="6248520" cy="4648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Question Word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ractice #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219320" y="7621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el director de la escuel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295280" y="3048120"/>
            <a:ext cx="579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el señor Garcí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219320" y="7621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el director de la escuel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295280" y="3048120"/>
            <a:ext cx="579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el señor Garcí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Comment 4"/>
          <p:cNvSpPr/>
          <p:nvPr/>
        </p:nvSpPr>
        <p:spPr>
          <a:xfrm>
            <a:off x="1676520" y="609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hora 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la una y med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hora 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la una y med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Comment 5"/>
          <p:cNvSpPr/>
          <p:nvPr/>
        </p:nvSpPr>
        <p:spPr>
          <a:xfrm>
            <a:off x="1981080" y="12193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te llama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e llamo Migu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te llama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e llamo Migu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Comment 6"/>
          <p:cNvSpPr/>
          <p:nvPr/>
        </p:nvSpPr>
        <p:spPr>
          <a:xfrm>
            <a:off x="1905120" y="114300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1295280" y="7621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tu profesor de matemática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295280" y="3048120"/>
            <a:ext cx="5639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la señora Sanchez.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295280" y="7621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tu profesor de matemática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295280" y="3048120"/>
            <a:ext cx="5639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la señora Sanchez.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Comment 4"/>
          <p:cNvSpPr/>
          <p:nvPr/>
        </p:nvSpPr>
        <p:spPr>
          <a:xfrm>
            <a:off x="1752480" y="609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ell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Pilar Val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Comment 4"/>
          <p:cNvSpPr/>
          <p:nvPr/>
        </p:nvSpPr>
        <p:spPr>
          <a:xfrm>
            <a:off x="3200400" y="487692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ell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Pilar Val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Comment 4"/>
          <p:cNvSpPr/>
          <p:nvPr/>
        </p:nvSpPr>
        <p:spPr>
          <a:xfrm>
            <a:off x="1676520" y="114300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clase 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1295280" y="3048120"/>
            <a:ext cx="487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la clase de españo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clase 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295280" y="3048120"/>
            <a:ext cx="65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la clase de histor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clase 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295280" y="3048120"/>
            <a:ext cx="65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la clase de histor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Comment 5"/>
          <p:cNvSpPr/>
          <p:nvPr/>
        </p:nvSpPr>
        <p:spPr>
          <a:xfrm>
            <a:off x="1981080" y="11430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día es ho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miércol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día es ho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miércol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Comment 5"/>
          <p:cNvSpPr/>
          <p:nvPr/>
        </p:nvSpPr>
        <p:spPr>
          <a:xfrm>
            <a:off x="1752480" y="12193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tu amig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mi amiga Lup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tu amig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mi amiga Lup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Comment 4"/>
          <p:cNvSpPr/>
          <p:nvPr/>
        </p:nvSpPr>
        <p:spPr>
          <a:xfrm>
            <a:off x="1676520" y="121932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ta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295280" y="304812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toy bien, gracias, ¿y tú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ta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295280" y="3048120"/>
            <a:ext cx="670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toy bien, gracias, ¿y tú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Comment 5"/>
          <p:cNvSpPr/>
          <p:nvPr/>
        </p:nvSpPr>
        <p:spPr>
          <a:xfrm>
            <a:off x="1828800" y="12193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la, ¿________ está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gul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la, ¿________ está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gul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Comment 6"/>
          <p:cNvSpPr/>
          <p:nvPr/>
        </p:nvSpPr>
        <p:spPr>
          <a:xfrm>
            <a:off x="3352680" y="121932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clase 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1295280" y="3048120"/>
            <a:ext cx="487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la clase de españo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Comment 5"/>
          <p:cNvSpPr/>
          <p:nvPr/>
        </p:nvSpPr>
        <p:spPr>
          <a:xfrm>
            <a:off x="1828800" y="11430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219320" y="83808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e llama el estudiante de Méxic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Pabl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1219320" y="83808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e llama el estudiante de Méxic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Pabl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Comment 6"/>
          <p:cNvSpPr/>
          <p:nvPr/>
        </p:nvSpPr>
        <p:spPr>
          <a:xfrm>
            <a:off x="1828800" y="60948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é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Tóm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é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Tóm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Comment 4"/>
          <p:cNvSpPr/>
          <p:nvPr/>
        </p:nvSpPr>
        <p:spPr>
          <a:xfrm>
            <a:off x="1676520" y="121932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De ________ 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de Nueva Yor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Comment 4"/>
          <p:cNvSpPr/>
          <p:nvPr/>
        </p:nvSpPr>
        <p:spPr>
          <a:xfrm>
            <a:off x="3124080" y="4952880"/>
            <a:ext cx="236232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Comment 6"/>
          <p:cNvSpPr/>
          <p:nvPr/>
        </p:nvSpPr>
        <p:spPr>
          <a:xfrm>
            <a:off x="6248520" y="495288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De ________ 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de Nueva Yor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Comment 4"/>
          <p:cNvSpPr/>
          <p:nvPr/>
        </p:nvSpPr>
        <p:spPr>
          <a:xfrm>
            <a:off x="2438280" y="1219320"/>
            <a:ext cx="236232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Comment 6"/>
          <p:cNvSpPr/>
          <p:nvPr/>
        </p:nvSpPr>
        <p:spPr>
          <a:xfrm>
            <a:off x="6248520" y="495288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1143000" y="60948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vas a hacer esta fin de seman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371600" y="2666880"/>
            <a:ext cx="487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oy a alquilar un vide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Comment 5"/>
          <p:cNvSpPr/>
          <p:nvPr/>
        </p:nvSpPr>
        <p:spPr>
          <a:xfrm>
            <a:off x="99072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Comment 6"/>
          <p:cNvSpPr/>
          <p:nvPr/>
        </p:nvSpPr>
        <p:spPr>
          <a:xfrm>
            <a:off x="6019920" y="4952880"/>
            <a:ext cx="236196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1143000" y="60948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vas a hacer esta fin de seman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Comment 5"/>
          <p:cNvSpPr/>
          <p:nvPr/>
        </p:nvSpPr>
        <p:spPr>
          <a:xfrm>
            <a:off x="1600200" y="4572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Comment 7"/>
          <p:cNvSpPr/>
          <p:nvPr/>
        </p:nvSpPr>
        <p:spPr>
          <a:xfrm>
            <a:off x="6019920" y="4952880"/>
            <a:ext cx="236196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1295280" y="2666880"/>
            <a:ext cx="487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oy a alquilar un vide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1143000" y="60948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abe la respuest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Comment 3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Comment 4"/>
          <p:cNvSpPr/>
          <p:nvPr/>
        </p:nvSpPr>
        <p:spPr>
          <a:xfrm>
            <a:off x="106668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Comment 5"/>
          <p:cNvSpPr/>
          <p:nvPr/>
        </p:nvSpPr>
        <p:spPr>
          <a:xfrm>
            <a:off x="6019920" y="4952880"/>
            <a:ext cx="236196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1219320" y="2743200"/>
            <a:ext cx="487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 lo sé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1143000" y="60948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abe la respuest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Comment 4"/>
          <p:cNvSpPr/>
          <p:nvPr/>
        </p:nvSpPr>
        <p:spPr>
          <a:xfrm>
            <a:off x="1600200" y="45720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Comment 5"/>
          <p:cNvSpPr/>
          <p:nvPr/>
        </p:nvSpPr>
        <p:spPr>
          <a:xfrm>
            <a:off x="106668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Comment 6"/>
          <p:cNvSpPr/>
          <p:nvPr/>
        </p:nvSpPr>
        <p:spPr>
          <a:xfrm>
            <a:off x="6019920" y="4952880"/>
            <a:ext cx="236196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1219320" y="2743200"/>
            <a:ext cx="487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 lo sé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219320" y="9144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hay en la mochil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295280" y="2743200"/>
            <a:ext cx="487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y un libro y una calculador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tá mi lápiz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295280" y="30481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tá en el escritori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Comment 4"/>
          <p:cNvSpPr/>
          <p:nvPr/>
        </p:nvSpPr>
        <p:spPr>
          <a:xfrm>
            <a:off x="320040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tá mi lápiz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295280" y="30481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tá en el escritori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Comment 4"/>
          <p:cNvSpPr/>
          <p:nvPr/>
        </p:nvSpPr>
        <p:spPr>
          <a:xfrm>
            <a:off x="1600200" y="121932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es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1295280" y="30481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un lápiz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es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295280" y="30481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un lápiz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Comment 5"/>
          <p:cNvSpPr/>
          <p:nvPr/>
        </p:nvSpPr>
        <p:spPr>
          <a:xfrm>
            <a:off x="1752480" y="12193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1219320" y="7621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A ________ hora empieza la clas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219320" y="2743200"/>
            <a:ext cx="6476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a clase empieza a la ocho en punt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1219320" y="7621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A ________ hora empieza la clas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219320" y="2743200"/>
            <a:ext cx="6476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a clase empieza a la ocho en punt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Comment 5"/>
          <p:cNvSpPr/>
          <p:nvPr/>
        </p:nvSpPr>
        <p:spPr>
          <a:xfrm>
            <a:off x="2362320" y="609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1219320" y="83808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De ________ parte de Ecuador eres, Silvi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1371600" y="2743200"/>
            <a:ext cx="487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y de la capital, de Quit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Comment 6"/>
          <p:cNvSpPr/>
          <p:nvPr/>
        </p:nvSpPr>
        <p:spPr>
          <a:xfrm>
            <a:off x="609588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219320" y="83808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De ________ parte de Ecuador eres, Silvi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371600" y="2743200"/>
            <a:ext cx="487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y de la capital, de Quit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Comment 5"/>
          <p:cNvSpPr/>
          <p:nvPr/>
        </p:nvSpPr>
        <p:spPr>
          <a:xfrm>
            <a:off x="2743200" y="609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Comment 6"/>
          <p:cNvSpPr/>
          <p:nvPr/>
        </p:nvSpPr>
        <p:spPr>
          <a:xfrm>
            <a:off x="609588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1219320" y="9144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tu nueva amig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1295280" y="3048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Alma.  Es mi vecin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1219320" y="9144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tu nueva amig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295280" y="3048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Alma.  Es mi vecin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Comment 4"/>
          <p:cNvSpPr/>
          <p:nvPr/>
        </p:nvSpPr>
        <p:spPr>
          <a:xfrm>
            <a:off x="1676520" y="68580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219320" y="9144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hay en la mochil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295280" y="2743200"/>
            <a:ext cx="487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y un libro y una calculador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Comment 5"/>
          <p:cNvSpPr/>
          <p:nvPr/>
        </p:nvSpPr>
        <p:spPr>
          <a:xfrm>
            <a:off x="1752480" y="6858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1219320" y="9144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e llama la chica de Californi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1295280" y="3048120"/>
            <a:ext cx="487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 llama Antonia Perez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1219320" y="9144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e llama la chica de Californi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295280" y="3048120"/>
            <a:ext cx="487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 llama Antonia Perez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Comment 6"/>
          <p:cNvSpPr/>
          <p:nvPr/>
        </p:nvSpPr>
        <p:spPr>
          <a:xfrm>
            <a:off x="1828800" y="68580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De ________ es usted, Señor Torr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295280" y="342900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y de Cub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Comment 5"/>
          <p:cNvSpPr/>
          <p:nvPr/>
        </p:nvSpPr>
        <p:spPr>
          <a:xfrm>
            <a:off x="914400" y="4952880"/>
            <a:ext cx="213372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Comment 6"/>
          <p:cNvSpPr/>
          <p:nvPr/>
        </p:nvSpPr>
        <p:spPr>
          <a:xfrm>
            <a:off x="58672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De ________ es usted, Señor Torr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1295280" y="342900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y de Cub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Comment 5"/>
          <p:cNvSpPr/>
          <p:nvPr/>
        </p:nvSpPr>
        <p:spPr>
          <a:xfrm>
            <a:off x="2590920" y="1219320"/>
            <a:ext cx="213336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Comment 6"/>
          <p:cNvSpPr/>
          <p:nvPr/>
        </p:nvSpPr>
        <p:spPr>
          <a:xfrm>
            <a:off x="58672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1219320" y="83808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tímida, Ana y Lup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1295280" y="3048120"/>
            <a:ext cx="670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a es la chica tímida.  Lupe es muy extravertid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1219320" y="83808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tímida, Ana y Lup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295280" y="3048120"/>
            <a:ext cx="670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a es la chica tímida.  Lupe es muy extravertid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Comment 4"/>
          <p:cNvSpPr/>
          <p:nvPr/>
        </p:nvSpPr>
        <p:spPr>
          <a:xfrm>
            <a:off x="1676520" y="68580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_ s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1295280" y="304812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Jaime y Carm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Comment 4"/>
          <p:cNvSpPr/>
          <p:nvPr/>
        </p:nvSpPr>
        <p:spPr>
          <a:xfrm>
            <a:off x="388620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Comment 5"/>
          <p:cNvSpPr/>
          <p:nvPr/>
        </p:nvSpPr>
        <p:spPr>
          <a:xfrm>
            <a:off x="914400" y="4952880"/>
            <a:ext cx="2666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Comment 6"/>
          <p:cNvSpPr/>
          <p:nvPr/>
        </p:nvSpPr>
        <p:spPr>
          <a:xfrm>
            <a:off x="6400800" y="495288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_ s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295280" y="304812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Jaime y Carm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Comment 4"/>
          <p:cNvSpPr/>
          <p:nvPr/>
        </p:nvSpPr>
        <p:spPr>
          <a:xfrm>
            <a:off x="388620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Comment 5"/>
          <p:cNvSpPr/>
          <p:nvPr/>
        </p:nvSpPr>
        <p:spPr>
          <a:xfrm>
            <a:off x="1752480" y="1143000"/>
            <a:ext cx="26672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Comment 6"/>
          <p:cNvSpPr/>
          <p:nvPr/>
        </p:nvSpPr>
        <p:spPr>
          <a:xfrm>
            <a:off x="6400800" y="495288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1219320" y="9907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on Carmen y Jaim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1295280" y="3048120"/>
            <a:ext cx="5639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inteligentes y estudioso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2"/>
          <p:cNvSpPr/>
          <p:nvPr/>
        </p:nvSpPr>
        <p:spPr>
          <a:xfrm>
            <a:off x="1219320" y="9907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on Carmen y Jaim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1295280" y="3048120"/>
            <a:ext cx="5639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inteligentes y estudioso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Comment 6"/>
          <p:cNvSpPr/>
          <p:nvPr/>
        </p:nvSpPr>
        <p:spPr>
          <a:xfrm>
            <a:off x="1828800" y="76212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libro 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1295280" y="30481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un libro de españo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2"/>
          <p:cNvSpPr/>
          <p:nvPr/>
        </p:nvSpPr>
        <p:spPr>
          <a:xfrm>
            <a:off x="1295280" y="9144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Carlo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295280" y="243828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cómico, atlético, y fuer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Comment 6"/>
          <p:cNvSpPr/>
          <p:nvPr/>
        </p:nvSpPr>
        <p:spPr>
          <a:xfrm>
            <a:off x="6019920" y="495288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1295280" y="9144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Carlo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1295280" y="243828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cómico, atlético, y fuer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Comment 6"/>
          <p:cNvSpPr/>
          <p:nvPr/>
        </p:nvSpPr>
        <p:spPr>
          <a:xfrm>
            <a:off x="1828800" y="68580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Pirat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1295280" y="3048120"/>
            <a:ext cx="609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irata es un perr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Comment 5"/>
          <p:cNvSpPr/>
          <p:nvPr/>
        </p:nvSpPr>
        <p:spPr>
          <a:xfrm>
            <a:off x="914400" y="50292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Pirat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295280" y="3048120"/>
            <a:ext cx="6096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irata es un perro bajo, feo y gor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Comment 5"/>
          <p:cNvSpPr/>
          <p:nvPr/>
        </p:nvSpPr>
        <p:spPr>
          <a:xfrm>
            <a:off x="1905120" y="12193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838080" y="990720"/>
            <a:ext cx="792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loria es cómica, ¿________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1295280" y="3048120"/>
            <a:ext cx="487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í, es siempre muy cómic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erd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838080" y="990720"/>
            <a:ext cx="792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loria es cómica, ¿________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1295280" y="3048120"/>
            <a:ext cx="487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í, es siempre muy cómic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Comment 4"/>
          <p:cNvSpPr/>
          <p:nvPr/>
        </p:nvSpPr>
        <p:spPr>
          <a:xfrm>
            <a:off x="5638680" y="8380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erd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Pirat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1295280" y="3048120"/>
            <a:ext cx="6096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irata es bajo, feo y gor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Comment 4"/>
          <p:cNvSpPr/>
          <p:nvPr/>
        </p:nvSpPr>
        <p:spPr>
          <a:xfrm>
            <a:off x="3505320" y="502920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Comment 5"/>
          <p:cNvSpPr/>
          <p:nvPr/>
        </p:nvSpPr>
        <p:spPr>
          <a:xfrm>
            <a:off x="914400" y="5029200"/>
            <a:ext cx="213372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Pirat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1295280" y="3048120"/>
            <a:ext cx="6096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irata es bajo, feo y gor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Comment 4"/>
          <p:cNvSpPr/>
          <p:nvPr/>
        </p:nvSpPr>
        <p:spPr>
          <a:xfrm>
            <a:off x="3505320" y="502920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Comment 5"/>
          <p:cNvSpPr/>
          <p:nvPr/>
        </p:nvSpPr>
        <p:spPr>
          <a:xfrm>
            <a:off x="914400" y="5029200"/>
            <a:ext cx="213372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Comment 6"/>
          <p:cNvSpPr/>
          <p:nvPr/>
        </p:nvSpPr>
        <p:spPr>
          <a:xfrm>
            <a:off x="1828800" y="121932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Oval 7"/>
          <p:cNvSpPr/>
          <p:nvPr/>
        </p:nvSpPr>
        <p:spPr>
          <a:xfrm>
            <a:off x="2133720" y="2057400"/>
            <a:ext cx="4876560" cy="2895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libro 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295280" y="30481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un libro de españo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Comment 5"/>
          <p:cNvSpPr/>
          <p:nvPr/>
        </p:nvSpPr>
        <p:spPr>
          <a:xfrm>
            <a:off x="1905120" y="11430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la chic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95280" y="3048120"/>
            <a:ext cx="632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Silvia, una nueva estudiante de Ecuado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la chic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295280" y="3048120"/>
            <a:ext cx="632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Silvia, una nueva estudiante de Ecuado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Comment 4"/>
          <p:cNvSpPr/>
          <p:nvPr/>
        </p:nvSpPr>
        <p:spPr>
          <a:xfrm>
            <a:off x="1676520" y="114300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10:01:47Z</dcterms:created>
  <dc:creator>Paul Widergren</dc:creator>
  <dc:description/>
  <dc:language>en-US</dc:language>
  <cp:lastModifiedBy>Jeff</cp:lastModifiedBy>
  <dcterms:modified xsi:type="dcterms:W3CDTF">2010-10-21T19:53:24Z</dcterms:modified>
  <cp:revision>3</cp:revision>
  <dc:subject/>
  <dc:title>No Slide Title</dc:title>
</cp:coreProperties>
</file>